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5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3E48-ACA3-4DF4-8111-BEBC7D116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6BC5-B9B7-4397-B9AA-9EE9FCAA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166F-E76A-46E3-8F6B-3DE0D6DE6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92D0-6EBB-4725-80E4-D97E983AC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04EC-F03C-4617-A7CF-4343BA81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A8F7-2DEA-46C0-9537-7F75A312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27D0-9A19-404C-AF40-E0051A8C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27E1-FCDC-4DBC-ABFF-17CB1278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548E-56A0-46BE-BA5F-BF58F5AE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1EB3-F3B7-48BB-8955-EDA19C54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7BE2-5EBF-4E8B-86DC-9C0CC1D5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B9AD-BA5E-4AB6-BE56-ABE6112A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4039-8BE6-41A8-B2E6-83C6CECDF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/>
          <p:cNvSpPr/>
          <p:nvPr/>
        </p:nvSpPr>
        <p:spPr>
          <a:xfrm>
            <a:off x="4648320" y="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157176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LMARNOCK  NORTH  WEST           KILMAURS – GLENCAIRN                          KILMAURS                                         KILMAURS                              KILMAURS  100TH                      KILMAURS  125TH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0" y="3200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SSEY  FERGUSON  WORKS                       NEWMILNS                                        NEWMILNS                                       NEWMILNS                              NEWMILNS  100TH              NEWMILNS  MILLENNIUM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0" y="48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ORTLAND                                              PORTLAND                            PORTLAND  100TH                              PORTLAND  150TH                                PRESTWICK                              PRESTW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655308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ESTWICK                                              PRESTWICK                             PRESTWICK  100TH                           PRESTWICK  100TH                    PRESTWICK  HOWIE  PUBLIC         HOWIE 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7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5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0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29" descr="Kilmarnock Northwest 21"/>
          <p:cNvPicPr/>
          <p:nvPr/>
        </p:nvPicPr>
        <p:blipFill>
          <a:blip r:embed="rId1"/>
          <a:stretch/>
        </p:blipFill>
        <p:spPr>
          <a:xfrm>
            <a:off x="595440" y="500040"/>
            <a:ext cx="1033200" cy="1047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0" descr="Kilmaurs 1"/>
          <p:cNvPicPr/>
          <p:nvPr/>
        </p:nvPicPr>
        <p:blipFill>
          <a:blip r:embed="rId2"/>
          <a:stretch/>
        </p:blipFill>
        <p:spPr>
          <a:xfrm>
            <a:off x="2166840" y="428760"/>
            <a:ext cx="120672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3" descr="Kilmaurs 2"/>
          <p:cNvPicPr/>
          <p:nvPr/>
        </p:nvPicPr>
        <p:blipFill>
          <a:blip r:embed="rId3"/>
          <a:stretch/>
        </p:blipFill>
        <p:spPr>
          <a:xfrm>
            <a:off x="3809880" y="500040"/>
            <a:ext cx="878040" cy="1069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4" descr="Kilmaurs 3"/>
          <p:cNvPicPr/>
          <p:nvPr/>
        </p:nvPicPr>
        <p:blipFill>
          <a:blip r:embed="rId4"/>
          <a:stretch/>
        </p:blipFill>
        <p:spPr>
          <a:xfrm>
            <a:off x="5381640" y="500040"/>
            <a:ext cx="878040" cy="1069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5" descr="Kilmaurs   100th 1 "/>
          <p:cNvPicPr/>
          <p:nvPr/>
        </p:nvPicPr>
        <p:blipFill>
          <a:blip r:embed="rId5"/>
          <a:stretch/>
        </p:blipFill>
        <p:spPr>
          <a:xfrm>
            <a:off x="6810480" y="571680"/>
            <a:ext cx="950760" cy="1047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7" descr="Massey Ferguson  Wks"/>
          <p:cNvPicPr/>
          <p:nvPr/>
        </p:nvPicPr>
        <p:blipFill>
          <a:blip r:embed="rId6"/>
          <a:stretch/>
        </p:blipFill>
        <p:spPr>
          <a:xfrm>
            <a:off x="560520" y="1916280"/>
            <a:ext cx="1096920" cy="128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8" descr="Newmilns 1"/>
          <p:cNvPicPr/>
          <p:nvPr/>
        </p:nvPicPr>
        <p:blipFill>
          <a:blip r:embed="rId7"/>
          <a:stretch/>
        </p:blipFill>
        <p:spPr>
          <a:xfrm>
            <a:off x="3666960" y="2143080"/>
            <a:ext cx="1097280" cy="1060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9" descr="Newmilns 2"/>
          <p:cNvPicPr/>
          <p:nvPr/>
        </p:nvPicPr>
        <p:blipFill>
          <a:blip r:embed="rId8"/>
          <a:stretch/>
        </p:blipFill>
        <p:spPr>
          <a:xfrm>
            <a:off x="5238720" y="2143080"/>
            <a:ext cx="1079640" cy="109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0" descr="Newmilns 100th"/>
          <p:cNvPicPr/>
          <p:nvPr/>
        </p:nvPicPr>
        <p:blipFill>
          <a:blip r:embed="rId9"/>
          <a:stretch/>
        </p:blipFill>
        <p:spPr>
          <a:xfrm>
            <a:off x="6738840" y="1857240"/>
            <a:ext cx="1133640" cy="1339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4" descr="Portland 100th"/>
          <p:cNvPicPr/>
          <p:nvPr/>
        </p:nvPicPr>
        <p:blipFill>
          <a:blip r:embed="rId10"/>
          <a:stretch/>
        </p:blipFill>
        <p:spPr>
          <a:xfrm>
            <a:off x="3666960" y="3571920"/>
            <a:ext cx="1189080" cy="1289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5" descr="Prestwick 1"/>
          <p:cNvPicPr/>
          <p:nvPr/>
        </p:nvPicPr>
        <p:blipFill>
          <a:blip r:embed="rId11"/>
          <a:stretch/>
        </p:blipFill>
        <p:spPr>
          <a:xfrm>
            <a:off x="6881760" y="3857760"/>
            <a:ext cx="1006560" cy="1009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6" descr="Prestwick 2"/>
          <p:cNvPicPr/>
          <p:nvPr/>
        </p:nvPicPr>
        <p:blipFill>
          <a:blip r:embed="rId12"/>
          <a:stretch/>
        </p:blipFill>
        <p:spPr>
          <a:xfrm>
            <a:off x="8167680" y="3786120"/>
            <a:ext cx="1133640" cy="115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7" descr="Prestwick 3"/>
          <p:cNvPicPr/>
          <p:nvPr/>
        </p:nvPicPr>
        <p:blipFill>
          <a:blip r:embed="rId13"/>
          <a:stretch/>
        </p:blipFill>
        <p:spPr>
          <a:xfrm>
            <a:off x="523800" y="5572080"/>
            <a:ext cx="1006560" cy="987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8" descr="Prestwick 4"/>
          <p:cNvPicPr/>
          <p:nvPr/>
        </p:nvPicPr>
        <p:blipFill>
          <a:blip r:embed="rId14"/>
          <a:stretch/>
        </p:blipFill>
        <p:spPr>
          <a:xfrm>
            <a:off x="2238480" y="5572080"/>
            <a:ext cx="1042920" cy="97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9" descr="Prestwick 100th 1"/>
          <p:cNvPicPr/>
          <p:nvPr/>
        </p:nvPicPr>
        <p:blipFill>
          <a:blip r:embed="rId15"/>
          <a:stretch/>
        </p:blipFill>
        <p:spPr>
          <a:xfrm>
            <a:off x="3666960" y="5214960"/>
            <a:ext cx="1206720" cy="1376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0" descr="Prestwick 100th 2"/>
          <p:cNvPicPr/>
          <p:nvPr/>
        </p:nvPicPr>
        <p:blipFill>
          <a:blip r:embed="rId16"/>
          <a:stretch/>
        </p:blipFill>
        <p:spPr>
          <a:xfrm>
            <a:off x="5238720" y="5214960"/>
            <a:ext cx="1262160" cy="1398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1" descr="Newmilns Millennium"/>
          <p:cNvPicPr/>
          <p:nvPr/>
        </p:nvPicPr>
        <p:blipFill>
          <a:blip r:embed="rId17"/>
          <a:stretch/>
        </p:blipFill>
        <p:spPr>
          <a:xfrm>
            <a:off x="8167680" y="1857240"/>
            <a:ext cx="1108080" cy="1379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4" descr="Kilmaurs 125th"/>
          <p:cNvPicPr/>
          <p:nvPr/>
        </p:nvPicPr>
        <p:blipFill>
          <a:blip r:embed="rId18"/>
          <a:stretch/>
        </p:blipFill>
        <p:spPr>
          <a:xfrm>
            <a:off x="8048520" y="333360"/>
            <a:ext cx="1357560" cy="1316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4" descr="Portland 3.jpg"/>
          <p:cNvPicPr/>
          <p:nvPr/>
        </p:nvPicPr>
        <p:blipFill>
          <a:blip r:embed="rId19"/>
          <a:stretch/>
        </p:blipFill>
        <p:spPr>
          <a:xfrm>
            <a:off x="2166840" y="3714840"/>
            <a:ext cx="1249560" cy="1181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5" descr="Portland 2.JPG"/>
          <p:cNvPicPr/>
          <p:nvPr/>
        </p:nvPicPr>
        <p:blipFill>
          <a:blip r:embed="rId20"/>
          <a:stretch/>
        </p:blipFill>
        <p:spPr>
          <a:xfrm>
            <a:off x="523800" y="371484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6" descr="Portland 150th.jpg"/>
          <p:cNvPicPr/>
          <p:nvPr/>
        </p:nvPicPr>
        <p:blipFill>
          <a:blip r:embed="rId21"/>
          <a:stretch/>
        </p:blipFill>
        <p:spPr>
          <a:xfrm>
            <a:off x="5167440" y="3643200"/>
            <a:ext cx="1463400" cy="1227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7" descr="Prestwick Howie 1.JPG"/>
          <p:cNvPicPr/>
          <p:nvPr/>
        </p:nvPicPr>
        <p:blipFill>
          <a:blip r:embed="rId22"/>
          <a:stretch/>
        </p:blipFill>
        <p:spPr>
          <a:xfrm>
            <a:off x="6953400" y="5500800"/>
            <a:ext cx="1060200" cy="1033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9" descr="Prestwick Howie 3.JPG"/>
          <p:cNvPicPr/>
          <p:nvPr/>
        </p:nvPicPr>
        <p:blipFill>
          <a:blip r:embed="rId23"/>
          <a:stretch/>
        </p:blipFill>
        <p:spPr>
          <a:xfrm>
            <a:off x="8381880" y="5643720"/>
            <a:ext cx="822600" cy="936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Newmilns 1.jpg"/>
          <p:cNvPicPr/>
          <p:nvPr/>
        </p:nvPicPr>
        <p:blipFill>
          <a:blip r:embed="rId24"/>
          <a:stretch/>
        </p:blipFill>
        <p:spPr>
          <a:xfrm>
            <a:off x="2144880" y="2133720"/>
            <a:ext cx="109692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8T20:06:11Z</dcterms:created>
  <dc:creator>JOHN YOUNG</dc:creator>
  <dc:description/>
  <dc:language>en-US</dc:language>
  <cp:lastModifiedBy>John</cp:lastModifiedBy>
  <cp:lastPrinted>2000-05-09T15:45:18Z</cp:lastPrinted>
  <dcterms:modified xsi:type="dcterms:W3CDTF">2011-08-24T15:36:46Z</dcterms:modified>
  <cp:revision>56</cp:revision>
  <dc:subject/>
  <dc:title>No Slide Title</dc:title>
</cp:coreProperties>
</file>